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F847-CA1C-4D06-B3FA-BA8FF14D3E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5956-BE08-458E-8B73-CF48AE9FD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9521-0C78-478A-9D3D-DF78C8E5A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750-CC5B-472E-A6F0-DEFDA687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F98-8B1E-4B88-AE8B-DAD4BBFD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254-FA9D-443B-83F4-BFAA0405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3B90-B937-40AD-A346-D503C425C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3135-8197-4F1B-A380-71661D67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9E7-D51E-474B-9605-C17C86C5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B93-DF95-4FA2-A2DF-E8D8274F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6F80-6F24-4EE8-BCB2-1737C5D3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508F-E69E-4992-9413-9BFDDE8E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B287-C41B-4017-A883-7C597451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275-78AD-4FDB-87F5-594A298E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55A8-8435-4C91-8898-CDFE6510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D398-EA20-4A14-969F-08875F8826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377C-C9E5-4155-85F3-C78662989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RED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existing IDUs/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corporate a variety of learning materials and resources to enhance the Science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evelop deeper content knowledge of the </a:t>
            </a:r>
            <a:r>
              <a:rPr b="1" lang="en-US" sz="3200" spc="-1" strike="noStrike" u="sng">
                <a:solidFill>
                  <a:srgbClr val="17375e"/>
                </a:solidFill>
                <a:uFillTx/>
                <a:latin typeface="Calibri"/>
              </a:rPr>
              <a:t>scientific inqui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3200" spc="-1" strike="noStrike" u="sng">
                <a:solidFill>
                  <a:srgbClr val="17375e"/>
                </a:solidFill>
                <a:uFillTx/>
                <a:latin typeface="Calibri"/>
              </a:rPr>
              <a:t>process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su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52280" y="7621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ed on ‘observing’ &amp; ‘comparing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ade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ign measuring lessons to teach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ing (similarities, differenc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ing by mat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arting li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needed to mak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FAI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mparis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eginning and end po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 placing unit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nd to e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two important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non standard uni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rm length, shoe, penci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dard units give more consistent results than non-standard uni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y second grade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se of standard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should know to make use of marks 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lers (centi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lance scale (gram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mometers (degrees in F or 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c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Q: what makes a good data table/grap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Table (well-label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 Graph (well-label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 Graph (well-label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DRY MIX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(for graph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alibri"/>
              </a:rPr>
              <a:t>D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dependent     or 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Responding variable;    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Y-ax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alibri"/>
              </a:rPr>
              <a:t>MI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Manipulated or 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Independent variable;   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X-ax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menting/Investig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ontroll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one variable at a ti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Manipulated/Independent  Vari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Observe the effect on another Variable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Responding/ Dependent Vari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 Keep all other variables consta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Controlled Variab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nemonic Ai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variable goes where on a graph?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(DRY MIX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Inquiry- 5 tas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sking a question (from observations etc.) about objects, organisms,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lan and conduct an invest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ther and interpret data using appropriate tools/techniques….. Examples.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ler, thermo m., measu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is evidenc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velo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xplanations (answer the question)…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o support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e findings to others…How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peaking, writing, draw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Science w/ Understading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apter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rue understanding mea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an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estions and express in own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at you lear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cepts to real-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du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vestig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nowledge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f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la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can you help Enhance Understanding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fo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cc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prior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? - Recall, Rehearse  (frequent revie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f none exis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Creat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tant prior knowled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ransf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knowledge: use it in a new situatio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rganiz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: Use of graphic organizers like outlines, spider maps, webs, Venn diagram, concept ma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Scaffoldin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ying degrees of teacher and peer assistan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earning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e/Mis- conce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tegies to remov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misconce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ote student dissatisfaction with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e scientific conce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for application and Integration of new conce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E Model of Science I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abo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/Guiding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228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tart a resource binder/self teac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Learn (and apply) 5-E model of Science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What processes of Science are used in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What activities are useful in teaching students  how to apply specific process of scienc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 of Scie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28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bser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ssify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ort…based on common properti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ferr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based on obs. &amp; prior knowled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easuring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quantify variables using Metric Syst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unica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report, displays- data table, graphs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ypothesiz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If…the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….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because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guide an investigation of a ques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dic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d on results, patter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extra, intrapo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men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 controll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vestig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er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28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gathering info using 5 senses and instruments that extend the sens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- and K: start making use of these senses; se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fferen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ut may mis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w will you teach Observing to K-3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BSERVE FOR DETAI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xamples of objects: candies, coin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wo type of observa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 Qualit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. Quantitative (measurab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makes a good scientific observing? ----    A Check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n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use all (safe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asure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quantit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estions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-- lead to new investig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lter the object to answer new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unic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recording it may help you compa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Use this checklist with Skittles/M &amp; 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y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rting according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mon attributes-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ased on observations, relationships among the proper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nary Classification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vide up in to 2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stage Classific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organism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Discussion: How will you teach this process of Science?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milar (common) properti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ask questions….What,  Wh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 Life Cy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er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ation is a statem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ough use of 5 se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fer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terpretation of observatio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nd prior knowledge)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nference looks backward…explanation of what has already happen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must make observations and interpretations explicit in their wor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ow can you help students achieve this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bservation stat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which senses did you u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ference stat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what is your evidence? How do you know? Why do you think so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Black Box (Brown bag)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dic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cast based on knowledge of patterns and relationships in a data.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diction looks forward to what might happ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a cloudless sunny day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apo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apo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505320" y="3886200"/>
          <a:ext cx="4876560" cy="185436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(a.m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IR TEMPERATURE (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othesiz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2280" y="10666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atement about a possible answer to a question that might be found through investigating-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t is an </a:t>
            </a: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educated gues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bout WHY an outcome occur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DICTION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DUCATED GUE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the expected outcome of a specific te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or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ad explanation based on several hypotheses tested ove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actice: handout hypothesis vs. predi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8:07:57Z</dcterms:created>
  <dc:creator>HWarrior</dc:creator>
  <dc:description/>
  <dc:language>en-US</dc:language>
  <cp:lastModifiedBy>Ram</cp:lastModifiedBy>
  <dcterms:modified xsi:type="dcterms:W3CDTF">2010-05-12T23:14:27Z</dcterms:modified>
  <cp:revision>29</cp:revision>
  <dc:subject/>
  <dc:title>Welcome to Science Methods</dc:title>
</cp:coreProperties>
</file>